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D73-6D1B-4573-B411-6336F659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827-E880-4EA3-ADED-FBD7EF9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521-92FF-4148-9707-F2BCA48F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4DB-204D-46A3-BE24-C3826976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AC9-6D56-4ED8-9930-C740D85D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8099-4325-4CE6-9639-78EFE16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187E-C295-43EB-A812-0008322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2125-185B-4A4C-995A-C1028E6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C9FC-801F-4D4E-B8C2-8F87017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CE8-E5C3-49C3-9C56-098D8B9A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32D-B1BD-4582-BD5F-37C4093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2C1-1F65-4084-812A-9A16285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207A-8075-41A2-86AA-A1D0051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3123-271C-4EAC-BD94-301E99C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37A5-8ED4-4FC2-BA3C-4FAA3FB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B5A-E144-40AB-93F5-37B7639E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9D8-31D1-4FB8-8654-08FDC051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E4D-4531-4EA9-833E-C60438E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60A-596E-4152-B244-8F538CC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DEC-9C0C-43AF-B224-174DBC9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338-28B9-44EA-9358-972970C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649-1099-4AAD-ABD7-F348B0B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81C-291F-4655-8C73-5ABD4AF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DE1-60B7-43EC-831D-AC3D83B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Rectangle 9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Rectangle 3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. 12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ealidades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rv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rv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ita, sirva la ensalad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usca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busqu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hag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a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d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vay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r - Negative tú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ds. comman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se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o give an affirmative or negative command in th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 or 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m, use the present-tens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m as the stem just as you did for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rt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r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, 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cort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las chuletas de cer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b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ueb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ñores, 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ruebe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la carne asad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ffirmative and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 have the same spelling changes and irregular forms as negative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he same rules you know for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tú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mands regarding pronouns apply to 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Ud. and Uds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s wel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ttach pronouns to affirmative comman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ponemos la comid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óngan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en la mes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886200" y="579132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With negative commands, pronouns go right before the verb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omemos la cena ah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, no </a:t>
            </a:r>
            <a:r>
              <a:rPr b="1" lang="en-US" sz="4800" spc="-1" strike="noStrike">
                <a:solidFill>
                  <a:srgbClr val="00cccc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coman todaví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886200" y="617220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Ud. and Uds. Commands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d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an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cccc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verb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erd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ier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 pierdan Uds. los fósfor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886200" y="6095880"/>
            <a:ext cx="4419720" cy="0"/>
          </a:xfrm>
          <a:prstGeom prst="line">
            <a:avLst/>
          </a:prstGeom>
          <a:ln cap="sq"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19:03:57Z</dcterms:created>
  <dc:creator>NIHS</dc:creator>
  <dc:description/>
  <dc:language>en-US</dc:language>
  <cp:lastModifiedBy>Windows User</cp:lastModifiedBy>
  <dcterms:modified xsi:type="dcterms:W3CDTF">2013-02-20T15:33:14Z</dcterms:modified>
  <cp:revision>3</cp:revision>
  <dc:subject/>
  <dc:title>Ud. and Uds. Commands</dc:title>
</cp:coreProperties>
</file>